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C2A-810F-49F5-B015-EB357C0E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7BE-E3E4-46DE-86F8-03861911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7336-E627-49DC-8B51-DB0C68CB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C5B-35B4-4F65-BF7F-A776292C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CF8-6FFC-4EE8-B265-C6E753A0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1BB-556E-4BA6-8DE5-5E47D281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FEC-8549-48F0-A84D-521D2515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909-6293-4596-AC28-49B860B9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A3F-7EE3-42BF-8B23-65625492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B576-3383-406A-BBB0-CDE3CAC4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8B3-AEC3-48D4-984C-05EA337E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F89-66AF-404A-8057-869CB1B8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7A2D-D01D-4042-9CDB-C14B71E47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Bologna in medicine (Switzerlan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84464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206064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Joined thinking since the 90’s: Academical teaching inadequate for medical practice                         Influence of environmental factors on public and individual health      Improvement of research structur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573408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55640" y="6021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021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203640" y="6093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20000" y="6093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3200" spc="-1" strike="noStrike">
                <a:solidFill>
                  <a:srgbClr val="333399"/>
                </a:solidFill>
                <a:latin typeface="Arial"/>
              </a:rPr>
              <a:t>Integrated « </a:t>
            </a: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Physician track »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628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6237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37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987640" y="630864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20000" y="630864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00000" y="981000"/>
            <a:ext cx="7986600" cy="4914720"/>
            <a:chOff x="900000" y="981000"/>
            <a:chExt cx="7986600" cy="4914720"/>
          </a:xfrm>
        </p:grpSpPr>
        <p:sp>
          <p:nvSpPr>
            <p:cNvPr id="130" name=""/>
            <p:cNvSpPr/>
            <p:nvPr/>
          </p:nvSpPr>
          <p:spPr>
            <a:xfrm>
              <a:off x="1937160" y="5438880"/>
              <a:ext cx="1970280" cy="45684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47160" y="32428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5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00000" y="5529240"/>
              <a:ext cx="97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1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47160" y="49006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2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47160" y="444312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3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47160" y="378144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4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37160" y="4886280"/>
              <a:ext cx="1373040" cy="43812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9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54080" y="4352760"/>
              <a:ext cx="1221120" cy="45720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8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37160" y="3666960"/>
              <a:ext cx="916200" cy="457200"/>
            </a:xfrm>
            <a:prstGeom prst="rect">
              <a:avLst/>
            </a:prstGeom>
            <a:solidFill>
              <a:srgbClr val="66c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Tahoma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37160" y="3152520"/>
              <a:ext cx="916200" cy="438120"/>
            </a:xfrm>
            <a:prstGeom prst="rect">
              <a:avLst/>
            </a:prstGeom>
            <a:solidFill>
              <a:srgbClr val="66c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Tahoma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1000" y="4912560"/>
              <a:ext cx="406440" cy="399960"/>
            </a:xfrm>
            <a:prstGeom prst="rect">
              <a:avLst/>
            </a:prstGeom>
            <a:solidFill>
              <a:srgbClr val="b8e8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99840" y="4352760"/>
              <a:ext cx="507600" cy="457200"/>
            </a:xfrm>
            <a:prstGeom prst="rect">
              <a:avLst/>
            </a:prstGeom>
            <a:solidFill>
              <a:srgbClr val="b8e8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81960" y="3666960"/>
              <a:ext cx="825480" cy="457200"/>
            </a:xfrm>
            <a:prstGeom prst="rect">
              <a:avLst/>
            </a:prstGeom>
            <a:solidFill>
              <a:srgbClr val="b8e8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4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94560" y="541512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9040" y="490068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19040" y="43862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99840" y="3999240"/>
              <a:ext cx="2184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000" spc="-1" strike="noStrike">
                  <a:solidFill>
                    <a:srgbClr val="333399"/>
                  </a:solidFill>
                  <a:latin typeface="Tahoma"/>
                </a:rPr>
                <a:t>Bachelor i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000" spc="-1" strike="noStrike">
                  <a:solidFill>
                    <a:srgbClr val="333399"/>
                  </a:solidFill>
                  <a:latin typeface="Tahoma"/>
                </a:rPr>
                <a:t>medical sc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19040" y="375732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44160" y="3175200"/>
              <a:ext cx="78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04880" y="2282400"/>
              <a:ext cx="26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000" spc="-1" strike="noStrike">
                  <a:solidFill>
                    <a:srgbClr val="333399"/>
                  </a:solidFill>
                  <a:latin typeface="Tahoma"/>
                </a:rPr>
                <a:t>Master in</a:t>
              </a:r>
              <a:r>
                <a:rPr b="1" lang="de-CH" sz="2000" spc="-1" strike="noStrike">
                  <a:solidFill>
                    <a:srgbClr val="960096"/>
                  </a:solidFill>
                  <a:latin typeface="Tahoma"/>
                </a:rPr>
                <a:t> </a:t>
              </a:r>
              <a:r>
                <a:rPr b="1" lang="de-CH" sz="2000" spc="-1" strike="noStrike">
                  <a:solidFill>
                    <a:srgbClr val="fc1908"/>
                  </a:solidFill>
                  <a:latin typeface="Tahoma"/>
                </a:rPr>
                <a:t>medic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27120" y="4981680"/>
              <a:ext cx="3759480" cy="304560"/>
            </a:xfrm>
            <a:prstGeom prst="rect">
              <a:avLst/>
            </a:prstGeom>
            <a:solidFill>
              <a:srgbClr val="b8e8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fc1908"/>
                  </a:solidFill>
                  <a:latin typeface="Arial"/>
                </a:rPr>
                <a:t>Elective modules (clinical orientatio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1520" y="5405760"/>
              <a:ext cx="2070360" cy="30456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1960" y="3152520"/>
              <a:ext cx="825480" cy="457200"/>
            </a:xfrm>
            <a:prstGeom prst="rect">
              <a:avLst/>
            </a:prstGeom>
            <a:solidFill>
              <a:srgbClr val="b8e8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4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26720" y="2523960"/>
              <a:ext cx="1981080" cy="571320"/>
            </a:xfrm>
            <a:prstGeom prst="rect">
              <a:avLst/>
            </a:prstGeom>
            <a:solidFill>
              <a:srgbClr val="b8e8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lective clinic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4840" y="2238480"/>
              <a:ext cx="23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0000"/>
                  </a:solidFill>
                  <a:latin typeface="Arial"/>
                </a:rPr>
                <a:t>Federal 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6720" y="1724040"/>
              <a:ext cx="1371240" cy="285480"/>
            </a:xfrm>
            <a:prstGeom prst="rect">
              <a:avLst/>
            </a:prstGeom>
            <a:solidFill>
              <a:srgbClr val="1dc3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Physic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75600" y="981000"/>
              <a:ext cx="1523880" cy="514080"/>
            </a:xfrm>
            <a:prstGeom prst="rect">
              <a:avLst/>
            </a:prstGeom>
            <a:solidFill>
              <a:srgbClr val="1dc3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Postgradu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586600" y="149472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61200" y="26953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6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07800" y="258120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Master thesis = M.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586600" y="204732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3200" spc="-1" strike="noStrike">
                <a:solidFill>
                  <a:srgbClr val="333399"/>
                </a:solidFill>
                <a:latin typeface="Arial"/>
              </a:rPr>
              <a:t>Integrated Master « MD-PhD</a:t>
            </a: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 »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628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6237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37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987640" y="630864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20000" y="630864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16000" y="907920"/>
            <a:ext cx="7579800" cy="5257440"/>
            <a:chOff x="1116000" y="907920"/>
            <a:chExt cx="7579800" cy="5257440"/>
          </a:xfrm>
        </p:grpSpPr>
        <p:sp>
          <p:nvSpPr>
            <p:cNvPr id="169" name=""/>
            <p:cNvSpPr/>
            <p:nvPr/>
          </p:nvSpPr>
          <p:spPr>
            <a:xfrm>
              <a:off x="2153160" y="5708520"/>
              <a:ext cx="1970280" cy="45684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63160" y="35128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5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16000" y="5798880"/>
              <a:ext cx="97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1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63160" y="517032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2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63160" y="471312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3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63160" y="4051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4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53160" y="5155920"/>
              <a:ext cx="1373040" cy="43812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9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70080" y="4622400"/>
              <a:ext cx="1221120" cy="45720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8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53160" y="3936600"/>
              <a:ext cx="916200" cy="457200"/>
            </a:xfrm>
            <a:prstGeom prst="rect">
              <a:avLst/>
            </a:prstGeom>
            <a:solidFill>
              <a:srgbClr val="66c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Tahoma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53160" y="3422160"/>
              <a:ext cx="916200" cy="438120"/>
            </a:xfrm>
            <a:prstGeom prst="rect">
              <a:avLst/>
            </a:prstGeom>
            <a:solidFill>
              <a:srgbClr val="66c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Tahoma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17000" y="5182200"/>
              <a:ext cx="406440" cy="399960"/>
            </a:xfrm>
            <a:prstGeom prst="rect">
              <a:avLst/>
            </a:prstGeom>
            <a:solidFill>
              <a:srgbClr val="eff27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15840" y="4622400"/>
              <a:ext cx="507600" cy="457200"/>
            </a:xfrm>
            <a:prstGeom prst="rect">
              <a:avLst/>
            </a:prstGeom>
            <a:solidFill>
              <a:srgbClr val="eff27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97960" y="3936600"/>
              <a:ext cx="825480" cy="457200"/>
            </a:xfrm>
            <a:prstGeom prst="rect">
              <a:avLst/>
            </a:prstGeom>
            <a:solidFill>
              <a:srgbClr val="eff27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4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0560" y="568476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35040" y="517032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35040" y="465588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15480" y="4269240"/>
              <a:ext cx="2184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000" spc="-1" strike="noStrike" u="sng">
                  <a:solidFill>
                    <a:srgbClr val="333399"/>
                  </a:solidFill>
                  <a:uFillTx/>
                  <a:latin typeface="Tahoma"/>
                </a:rPr>
                <a:t>Bachelor i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000" spc="-1" strike="noStrike" u="sng">
                  <a:solidFill>
                    <a:srgbClr val="333399"/>
                  </a:solidFill>
                  <a:uFillTx/>
                  <a:latin typeface="Tahoma"/>
                </a:rPr>
                <a:t>medical sc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35040" y="402732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81040" y="3444840"/>
              <a:ext cx="1774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 </a:t>
              </a:r>
              <a:br>
                <a:rPr sz="1600"/>
              </a:b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+ Master thesi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50720" y="5251320"/>
              <a:ext cx="2845080" cy="304560"/>
            </a:xfrm>
            <a:prstGeom prst="rect">
              <a:avLst/>
            </a:prstGeom>
            <a:solidFill>
              <a:srgbClr val="eff27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lective modu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57520" y="5675400"/>
              <a:ext cx="2070000" cy="30456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97960" y="3422160"/>
              <a:ext cx="825480" cy="457200"/>
            </a:xfrm>
            <a:prstGeom prst="rect">
              <a:avLst/>
            </a:prstGeom>
            <a:solidFill>
              <a:srgbClr val="eff27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4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96920" y="2393640"/>
              <a:ext cx="1981440" cy="571320"/>
            </a:xfrm>
            <a:prstGeom prst="rect">
              <a:avLst/>
            </a:prstGeom>
            <a:solidFill>
              <a:srgbClr val="b8e8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lective clinic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3880" y="2084040"/>
              <a:ext cx="23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0000"/>
                  </a:solidFill>
                  <a:latin typeface="Arial"/>
                </a:rPr>
                <a:t>Federal 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98440" y="1593720"/>
              <a:ext cx="1371240" cy="285480"/>
            </a:xfrm>
            <a:prstGeom prst="rect">
              <a:avLst/>
            </a:prstGeom>
            <a:solidFill>
              <a:srgbClr val="1dc3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Physic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47680" y="907920"/>
              <a:ext cx="1523880" cy="514080"/>
            </a:xfrm>
            <a:prstGeom prst="rect">
              <a:avLst/>
            </a:prstGeom>
            <a:solidFill>
              <a:srgbClr val="1dc3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Postgradu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359040" y="14025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359040" y="191700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050920" y="1773360"/>
            <a:ext cx="18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1052640"/>
            <a:ext cx="1930320" cy="1962000"/>
          </a:xfrm>
          <a:prstGeom prst="rect">
            <a:avLst/>
          </a:prstGeom>
          <a:solidFill>
            <a:srgbClr val="eff2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Tahoma"/>
              </a:rPr>
              <a:t>MD P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Tahoma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Tahoma"/>
              </a:rPr>
              <a:t>2 –3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48360" y="3068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 u="sng">
                <a:solidFill>
                  <a:srgbClr val="ff0000"/>
                </a:solidFill>
                <a:uFillTx/>
                <a:latin typeface="Arial"/>
              </a:rPr>
              <a:t>Master in medical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de-CH" sz="1800" spc="-1" strike="noStrike" u="sng">
                <a:solidFill>
                  <a:srgbClr val="ff0000"/>
                </a:solidFill>
                <a:uFillTx/>
                <a:latin typeface="Arial"/>
              </a:rPr>
              <a:t>with a m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987640" y="306828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846000" y="18248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333399"/>
                </a:solidFill>
                <a:latin typeface="Arial"/>
              </a:rPr>
              <a:t>Do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11640" y="2708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211640" y="1700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3200" spc="-1" strike="noStrike">
                <a:solidFill>
                  <a:srgbClr val="333399"/>
                </a:solidFill>
                <a:latin typeface="Arial"/>
              </a:rPr>
              <a:t>Integrated Master « Public Health</a:t>
            </a: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 »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1628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24000" y="6237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37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987640" y="630864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20000" y="630864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116000" y="907920"/>
            <a:ext cx="7579800" cy="5257440"/>
            <a:chOff x="1116000" y="907920"/>
            <a:chExt cx="7579800" cy="5257440"/>
          </a:xfrm>
        </p:grpSpPr>
        <p:sp>
          <p:nvSpPr>
            <p:cNvPr id="212" name=""/>
            <p:cNvSpPr/>
            <p:nvPr/>
          </p:nvSpPr>
          <p:spPr>
            <a:xfrm>
              <a:off x="2153160" y="5708520"/>
              <a:ext cx="1970280" cy="45684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63160" y="35128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5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16000" y="5798880"/>
              <a:ext cx="97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1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63160" y="517032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2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63160" y="471312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3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63160" y="4051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4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53160" y="5155920"/>
              <a:ext cx="1373040" cy="43812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9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70080" y="4622400"/>
              <a:ext cx="1221120" cy="45720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8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53160" y="3936600"/>
              <a:ext cx="916200" cy="457200"/>
            </a:xfrm>
            <a:prstGeom prst="rect">
              <a:avLst/>
            </a:prstGeom>
            <a:solidFill>
              <a:srgbClr val="66c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Tahoma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53160" y="3422160"/>
              <a:ext cx="916200" cy="438120"/>
            </a:xfrm>
            <a:prstGeom prst="rect">
              <a:avLst/>
            </a:prstGeom>
            <a:solidFill>
              <a:srgbClr val="66c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Tahoma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17000" y="5182200"/>
              <a:ext cx="406440" cy="399960"/>
            </a:xfrm>
            <a:prstGeom prst="rect">
              <a:avLst/>
            </a:prstGeom>
            <a:solidFill>
              <a:srgbClr val="da4a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15840" y="4622400"/>
              <a:ext cx="507600" cy="457200"/>
            </a:xfrm>
            <a:prstGeom prst="rect">
              <a:avLst/>
            </a:prstGeom>
            <a:solidFill>
              <a:srgbClr val="da4a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97960" y="3936600"/>
              <a:ext cx="825480" cy="457200"/>
            </a:xfrm>
            <a:prstGeom prst="rect">
              <a:avLst/>
            </a:prstGeom>
            <a:solidFill>
              <a:srgbClr val="da4a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4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10560" y="568476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35040" y="517032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35040" y="465588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15480" y="4269240"/>
              <a:ext cx="2184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000" spc="-1" strike="noStrike" u="sng">
                  <a:solidFill>
                    <a:srgbClr val="333399"/>
                  </a:solidFill>
                  <a:uFillTx/>
                  <a:latin typeface="Tahoma"/>
                </a:rPr>
                <a:t>Bachelor i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000" spc="-1" strike="noStrike" u="sng">
                  <a:solidFill>
                    <a:srgbClr val="333399"/>
                  </a:solidFill>
                  <a:uFillTx/>
                  <a:latin typeface="Tahoma"/>
                </a:rPr>
                <a:t>medical sc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35040" y="402732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81040" y="3444840"/>
              <a:ext cx="1774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 </a:t>
              </a:r>
              <a:br>
                <a:rPr sz="1600"/>
              </a:b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+ Master thesi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50720" y="5251320"/>
              <a:ext cx="2845080" cy="304560"/>
            </a:xfrm>
            <a:prstGeom prst="rect">
              <a:avLst/>
            </a:prstGeom>
            <a:solidFill>
              <a:srgbClr val="da4a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lective modu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57520" y="5675400"/>
              <a:ext cx="2070000" cy="30456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97960" y="3422160"/>
              <a:ext cx="825480" cy="457200"/>
            </a:xfrm>
            <a:prstGeom prst="rect">
              <a:avLst/>
            </a:prstGeom>
            <a:solidFill>
              <a:srgbClr val="da4a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4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96920" y="2393640"/>
              <a:ext cx="1981440" cy="571320"/>
            </a:xfrm>
            <a:prstGeom prst="rect">
              <a:avLst/>
            </a:prstGeom>
            <a:solidFill>
              <a:srgbClr val="b8e8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lective clinic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93880" y="2084040"/>
              <a:ext cx="23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0000"/>
                  </a:solidFill>
                  <a:latin typeface="Arial"/>
                </a:rPr>
                <a:t>Federal 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98440" y="1593720"/>
              <a:ext cx="1371240" cy="285480"/>
            </a:xfrm>
            <a:prstGeom prst="rect">
              <a:avLst/>
            </a:prstGeom>
            <a:solidFill>
              <a:srgbClr val="1dc3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Physic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47680" y="907920"/>
              <a:ext cx="1523880" cy="514080"/>
            </a:xfrm>
            <a:prstGeom prst="rect">
              <a:avLst/>
            </a:prstGeom>
            <a:solidFill>
              <a:srgbClr val="1dc3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Postgradu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359040" y="14025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359040" y="191700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050920" y="1773360"/>
            <a:ext cx="18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1052640"/>
            <a:ext cx="1930320" cy="1962000"/>
          </a:xfrm>
          <a:prstGeom prst="rect">
            <a:avLst/>
          </a:prstGeom>
          <a:solidFill>
            <a:srgbClr val="da4a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Master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advanced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 –3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48360" y="3068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 u="sng">
                <a:solidFill>
                  <a:srgbClr val="ff0000"/>
                </a:solidFill>
                <a:uFillTx/>
                <a:latin typeface="Arial"/>
              </a:rPr>
              <a:t>Master in medical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de-CH" sz="1800" spc="-1" strike="noStrike" u="sng">
                <a:solidFill>
                  <a:srgbClr val="ff0000"/>
                </a:solidFill>
                <a:uFillTx/>
                <a:latin typeface="Arial"/>
              </a:rPr>
              <a:t>with a m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987640" y="306828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846000" y="18248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333399"/>
                </a:solidFill>
                <a:latin typeface="Arial"/>
              </a:rPr>
              <a:t>Do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11640" y="2708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211640" y="1700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4400" spc="-1" strike="noStrike">
                <a:solidFill>
                  <a:srgbClr val="ffffff"/>
                </a:solidFill>
                <a:latin typeface="Arial"/>
              </a:rPr>
              <a:t>Bologna Switzer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84464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2205000"/>
            <a:ext cx="8209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Aft>
                <a:spcPts val="22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Law on medical professions with temporary dispositions for 5 years, i.e. in full vigor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Bologna Process in vigor since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566100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11280" y="6021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021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2987640" y="6093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20000" y="6093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ffff"/>
                </a:solidFill>
                <a:latin typeface="Arial"/>
              </a:rPr>
              <a:t>Declaration of Bolog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70028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700280"/>
            <a:ext cx="8424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Started 1998 by ministers of education D, I, F, G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Declaration signed 1999 by 29 states in Bolog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Extended now to 46 states i.e. all Europe incl. Russia and Turke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73408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6021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021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203640" y="6093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0000" y="6093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ffff"/>
                </a:solidFill>
                <a:latin typeface="Arial"/>
              </a:rPr>
              <a:t>Declaration of Bologn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70028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700280"/>
            <a:ext cx="8424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European teaching space by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2 cycles of superior studies of 3 years at least: bachelor and master Additional cycle for doctrorate (min. 3 yea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Credit system 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73408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6021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021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203640" y="6093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6093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ffff"/>
                </a:solidFill>
                <a:latin typeface="Arial"/>
              </a:rPr>
              <a:t>Declaration of Bologn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13372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2492280"/>
            <a:ext cx="842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Facilitate movements and exchange of students, teachers and researc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Cooperation in quality system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544500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5877000"/>
          <a:ext cx="106704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877000"/>
                    <a:ext cx="10670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3132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5877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ffff"/>
                </a:solidFill>
                <a:latin typeface="Arial"/>
              </a:rPr>
              <a:t>Declaration of Bologna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70028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1700280"/>
            <a:ext cx="8424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Facilitate movements and exchange of students, teachers and researc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Cooperation in quality syste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European dimension for superior te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573408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6021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021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203640" y="6093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6093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4400" spc="-1" strike="noStrike">
                <a:solidFill>
                  <a:srgbClr val="ffffff"/>
                </a:solidFill>
                <a:latin typeface="Arial"/>
              </a:rPr>
              <a:t>Bologna Switzerland: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557360"/>
            <a:ext cx="842472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Bachelor: 3 years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CH" sz="3200" spc="-1" strike="noStrike">
                <a:solidFill>
                  <a:srgbClr val="4eae38"/>
                </a:solidFill>
                <a:latin typeface="Arial"/>
              </a:rPr>
              <a:t>180 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1160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203cf"/>
                </a:solidFill>
                <a:latin typeface="Arial"/>
                <a:ea typeface="Arial"/>
              </a:rPr>
              <a:t>    </a:t>
            </a:r>
            <a:r>
              <a:rPr b="1" lang="de-CH" sz="3200" spc="-1" strike="noStrike">
                <a:solidFill>
                  <a:srgbClr val="1203cf"/>
                </a:solidFill>
                <a:latin typeface="Arial"/>
                <a:ea typeface="Arial"/>
              </a:rPr>
              <a:t>Bachelor „in medical sciences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Master: 2-3 years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CH" sz="3200" spc="-1" strike="noStrike">
                <a:solidFill>
                  <a:srgbClr val="4eae38"/>
                </a:solidFill>
                <a:latin typeface="Arial"/>
              </a:rPr>
              <a:t>120 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1160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203cf"/>
                </a:solidFill>
                <a:latin typeface="Arial"/>
                <a:ea typeface="Arial"/>
              </a:rPr>
              <a:t>    </a:t>
            </a:r>
            <a:r>
              <a:rPr b="1" lang="de-CH" sz="3200" spc="-1" strike="noStrike">
                <a:solidFill>
                  <a:srgbClr val="1203cf"/>
                </a:solidFill>
                <a:latin typeface="Arial"/>
                <a:ea typeface="Arial"/>
              </a:rPr>
              <a:t>Master in medicine </a:t>
            </a:r>
            <a:r>
              <a:rPr b="1" lang="de-CH" sz="32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116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  <a:ea typeface="Arial"/>
              </a:rPr>
              <a:t>Clinical practical year  </a:t>
            </a:r>
            <a:r>
              <a:rPr b="1" lang="de-CH" sz="3200" spc="-1" strike="noStrike">
                <a:solidFill>
                  <a:srgbClr val="4eae38"/>
                </a:solidFill>
                <a:latin typeface="Arial"/>
                <a:ea typeface="Arial"/>
              </a:rPr>
              <a:t>60 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1160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9cc00"/>
                </a:solidFill>
                <a:latin typeface="Arial"/>
                <a:ea typeface="Arial"/>
              </a:rPr>
              <a:t>    </a:t>
            </a:r>
            <a:r>
              <a:rPr b="1" lang="de-CH" sz="3200" spc="-1" strike="noStrike">
                <a:solidFill>
                  <a:srgbClr val="ff0000"/>
                </a:solidFill>
                <a:latin typeface="Arial"/>
                <a:ea typeface="Arial"/>
              </a:rPr>
              <a:t>Physician</a:t>
            </a:r>
            <a:r>
              <a:rPr b="1" lang="de-CH" sz="3200" spc="-1" strike="noStrike">
                <a:solidFill>
                  <a:srgbClr val="99cc00"/>
                </a:solidFill>
                <a:latin typeface="Arial"/>
                <a:ea typeface="Arial"/>
              </a:rPr>
              <a:t>                     </a:t>
            </a:r>
            <a:r>
              <a:rPr b="1" lang="de-CH" sz="3200" spc="-1" strike="noStrike">
                <a:solidFill>
                  <a:srgbClr val="ff0000"/>
                </a:solidFill>
                <a:latin typeface="Arial"/>
                <a:ea typeface="Arial"/>
              </a:rPr>
              <a:t>360 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1160">
              <a:lnSpc>
                <a:spcPct val="100000"/>
              </a:lnSpc>
              <a:spcAft>
                <a:spcPts val="20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9cc00"/>
                </a:solidFill>
                <a:latin typeface="Arial"/>
                <a:ea typeface="Arial"/>
              </a:rPr>
              <a:t> 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  <a:ea typeface="Arial"/>
              </a:rPr>
              <a:t>Doctorate 2-3 years/Postgraduate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580536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11280" y="6021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021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203640" y="6093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6093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Bologna Switzerland: Bases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773360"/>
            <a:ext cx="88930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954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  <a:ea typeface="Arial"/>
              </a:rPr>
              <a:t>In medicine, Bachelor, Master (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  <a:ea typeface="Arial"/>
              </a:rPr>
              <a:t>postgraduate training) co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95400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0000"/>
                </a:solidFill>
                <a:latin typeface="Arial"/>
                <a:ea typeface="Arial"/>
              </a:rPr>
              <a:t>a c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954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  <a:ea typeface="Arial"/>
              </a:rPr>
              <a:t>Faculty </a:t>
            </a:r>
            <a:r>
              <a:rPr b="1" i="1" lang="de-CH" sz="3200" spc="-1" strike="noStrike">
                <a:solidFill>
                  <a:srgbClr val="ff0000"/>
                </a:solidFill>
                <a:latin typeface="Arial"/>
                <a:ea typeface="Arial"/>
              </a:rPr>
              <a:t>can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de-CH" sz="3200" spc="-1" strike="noStrike">
                <a:solidFill>
                  <a:srgbClr val="ff0000"/>
                </a:solidFill>
                <a:latin typeface="Arial"/>
                <a:ea typeface="Arial"/>
              </a:rPr>
              <a:t>decide on addit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ff0000"/>
                </a:solidFill>
                <a:latin typeface="Arial"/>
                <a:ea typeface="Arial"/>
              </a:rPr>
              <a:t>requirements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  <a:ea typeface="Arial"/>
              </a:rPr>
              <a:t>for applicants with other 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954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  <a:ea typeface="Arial"/>
              </a:rPr>
              <a:t>Bachelor is a title delivered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de-CH" sz="3200" spc="-1" strike="noStrike">
                <a:solidFill>
                  <a:srgbClr val="ff0000"/>
                </a:solidFill>
                <a:latin typeface="Arial"/>
                <a:ea typeface="Arial"/>
              </a:rPr>
              <a:t>on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580536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6021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021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203640" y="6093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20000" y="6093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Bologna Switzerland: Bases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1628640"/>
            <a:ext cx="88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Content is the minimal general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requirement for all students (Swiss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catalogue of </a:t>
            </a:r>
            <a:r>
              <a:rPr b="1" lang="de-CH" sz="3200" spc="-1" strike="noStrike">
                <a:solidFill>
                  <a:srgbClr val="ff0000"/>
                </a:solidFill>
                <a:latin typeface="Arial"/>
              </a:rPr>
              <a:t>learning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 objectives – Law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on medical professions 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Elective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580536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11280" y="6021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021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203640" y="6093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6093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Bologna Switzerland: Bases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628640"/>
            <a:ext cx="8208720" cy="42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Possible elective Modules: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- Clinical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- MD PhD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- Internation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- Public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- Local str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c1908"/>
                </a:solidFill>
                <a:latin typeface="Arial"/>
              </a:rPr>
              <a:t>  </a:t>
            </a:r>
            <a:r>
              <a:rPr b="1" i="1" lang="de-CH" sz="2400" spc="-1" strike="noStrike">
                <a:solidFill>
                  <a:srgbClr val="fc1908"/>
                </a:solidFill>
                <a:latin typeface="Arial"/>
              </a:rPr>
              <a:t>Students can change  their elective module</a:t>
            </a: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 d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Bachelor program</a:t>
            </a: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580536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11280" y="6021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021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203640" y="6093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6093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06:03:49Z</dcterms:created>
  <dc:creator>Yves Guisan</dc:creator>
  <dc:description/>
  <dc:language>en-US</dc:language>
  <cp:lastModifiedBy>Guisan</cp:lastModifiedBy>
  <dcterms:modified xsi:type="dcterms:W3CDTF">2009-06-08T22:14:50Z</dcterms:modified>
  <cp:revision>9</cp:revision>
  <dc:subject/>
  <dc:title>Diapositive 1</dc:title>
</cp:coreProperties>
</file>